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C62F-4E29-4FBA-A327-B55E32D4F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09FB-C72B-4B55-8F12-926EBC50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F776-072D-4DE1-967B-DCC613FCE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AB2B-7990-4C06-92A4-142CC319B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568B-D045-4476-975D-9D7210F0E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8FBA0-9B5F-49B7-88FB-6619C0CC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920F0-5B9D-4456-9799-F86A68A1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7D6A5-D588-4C4D-9D2C-130D0C5F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C0A4-7888-4F46-B589-377D0FF2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21E9-1519-4D8E-924F-4C9B6115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6C4D-6462-433E-857E-15577047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DC37-1073-4B5F-BF68-1146E077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88DC-9C97-4F85-868E-D9D3A264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B49B-973A-4D1A-B4EF-9BCECC8E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4230-0211-4F75-8CB8-EB23309D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158C7-7287-414C-A8C1-1FDDE3396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C35A-6571-4BA3-AE46-266C4A786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6EA8-0139-4B34-9AB4-213B9051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FBAE-1211-4D89-A7F4-EE9CF020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5EA3-6175-4167-AB4C-D7ABB791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3700-FD2E-4BC2-9BE5-506425FB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4E4C-A0C4-48BF-9A84-17F6D80E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72BC-BC09-42AC-9A91-95BA1896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13E4-25A1-4C1A-9EED-CFF08144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5C2B-D7D6-4815-B8F6-579D57D8FAA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D92D-1ADE-4B49-84F3-0B62457C3CA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4"/>
          <p:cNvGraphicFramePr/>
          <p:nvPr/>
        </p:nvGraphicFramePr>
        <p:xfrm>
          <a:off x="831960" y="1577880"/>
          <a:ext cx="510516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577880"/>
                    <a:ext cx="510516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9 ГОД И ПЛАНОВЫЙ ПЕРИОД 2020-2021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3:46Z</dcterms:modified>
  <cp:revision>46</cp:revision>
  <dc:subject/>
  <dc:title>Структура собственных доходов на 2016 год бюджета Дальнереченского городского округа</dc:title>
</cp:coreProperties>
</file>